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8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4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ftr" idx="4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 type="sldNum" idx="4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084B-697A-483E-92E7-78ABC735F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8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6316-0B4C-40E1-A0F0-5D6D53282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C1A-4F69-40CB-8FDC-83EAC665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52BD-6914-4F63-B6CB-0C6927FB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F4D401-F6EC-47F3-BB64-276B0D34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BB08B9-05A6-42E1-AB8F-E6FA1DF8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41922D-F6A5-444E-B6A3-DD11BF17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17A4D2-1CCF-4EDA-968A-65F121ED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64030D-F860-4C19-B91A-BEA61E7A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81EF1F-AF88-4E73-9F0F-03BF5EBC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782599-A671-48F6-9CE3-EC7E536C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C62173-0EBF-495E-8DCA-689816C8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04451B-1BF9-47C5-97F8-94117112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A31B9A-40CB-484C-9186-03AE0C41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2921-13D0-4F24-B138-CAC97BFF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C62E67-8BB0-4941-9FAE-7050E65B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093B1D-6628-4F9E-8722-8469C196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2B3991-6D40-4860-BE6A-46287ED5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29B2A6-829B-4183-91AC-B8B12CB5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4B61E1-265D-4AF2-A886-D7133A25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818353-8102-4EBD-8C5F-A8797C61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91E807-8CD1-440F-A113-8EA1B437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80EE64-5963-4F2B-9129-7B15391F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5B0FF3-1837-49E5-BC9E-93CF1D56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E5CA4E-0F83-451B-9956-3056374B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47BE-3553-4851-86D6-A1824C08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3FE2F5-24B5-48E9-9451-797E9E57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486528-70A8-47AF-9E5F-D28F6056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396479-B7D6-44E7-95E7-566222D1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BBB255-FDB5-489E-A5FC-838086BA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C761E4-7324-4E34-94C0-F8A43CEB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C965C8-D8CC-41DE-B64B-A9992589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10B203-ED96-427D-A129-9D07AD4A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866605-0A33-4009-93CA-0FF6036D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C2D686-A448-4347-8448-BB0A131C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5BF9CE-C7CE-49CF-A6C2-D8EFF431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DA25-1BDE-4847-869D-70C7770E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270BB9-412B-4C6A-AB8A-019970BC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875031-3473-45E7-85E2-8EF369CD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FCF9C7-3F9D-468A-ABA2-43A2A7CC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18207B-5D85-4357-AB0C-CC733F51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AA7A44-8A57-4583-9751-DE3DC244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25AAAB-85EB-4320-B11B-B79D20E3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B6DBE0-C1D3-4612-BC15-7BDCC3BA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95A479-77EC-4E4D-AFFF-17E589AF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B5FCE0-9135-4F48-8615-FB4CDA4C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6840CE-8BB3-460B-A000-D0984EB8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0769-C048-457D-83B9-DF8A6F01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C328B3-F6A1-4236-8879-983A5603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5607B5-02D4-4637-B8A3-34006F14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44B127-E1B8-4912-9D4F-1D35DBDD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DFFB54-3D4A-4AB2-A324-A2AF77B9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94F7DC-22EA-45E8-AC86-1D287635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C2259E-8E3A-4F38-9854-3417560F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663C37-7F3D-411D-8EC5-C105A721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C573B2-84DB-4329-8DA0-7D6E01D7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0EA86A-A2D2-460C-850C-DDC32493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9054E3-79A4-4E31-A645-86E10BBC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FC45-FA81-4D2B-875C-3C4769AF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4359FA-816C-45BD-A163-722C6013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81EB15-AC37-4A57-9740-C729022E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3050C4-A04E-494E-8BFD-265A3FD3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867F2E-DFD8-45F7-A6D5-5589037E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084891-B7C6-4F6E-969F-E77CD14E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25DF53-B344-4669-99FB-FF8C6B7D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BFB77C-9EBC-44D4-B391-3AE4D552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D4863C-84A6-44B3-80BA-40495ADE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F3ED36-2CE4-4146-84D5-C6E7574A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71BD1F-5017-4993-B858-62ED0D2F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6633-E468-4DCE-A4DD-F3351778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E5E633-B0BD-4BF8-A106-D54C670A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047017-553A-4D83-9996-54243BB4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C7A736-A2B8-4229-AD8D-8ADE20E9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F05A67-71B2-409E-B185-A1921CC9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502531-AE25-46BA-ADAB-5A96CBB0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2E7FEE-2156-458F-B712-8F038979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B8CF4B-5D46-4000-82F1-9A7C7844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DA0B50-D314-48F1-8F52-88EF7710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5A70573-BC34-43C3-8565-98B205E6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548A7B-AF74-4899-85E1-9B554DA7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15C9-C05E-427D-AEC6-DC92B390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38970C-04DF-49BC-A76C-8FFDADE8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C53030-8E3F-4D9F-99A6-464E5CFE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55BDCE2-3E39-4078-BB98-2F2FC818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150EAF-0200-461E-9DD8-795C6478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898DFC-E043-4947-9293-0A1BA51F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56F27C0-6C99-46BA-A69F-8FDE608D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ECFC9F-DEB0-4C9E-B51C-52616834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56DCA8-5146-4008-801B-DEF3DCD4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17862A-8EEF-4034-9A42-F60BEA47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95D899D-5DB3-410C-9824-D5FF635C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9390-303A-4D9C-9566-0F1FC653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7D0832-2204-4F34-B7E8-6A76BAB6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3575-9FA5-4C68-B1FF-5DCFAD34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CE46-7143-4E99-91EA-30061B1A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97B2-114E-4276-A98E-CA7AD4E9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563D-7D72-4014-B4E8-E7F07061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013E-F9E2-4216-97DD-B4F0A8EB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2245-9F4D-44FC-9302-E53AF22B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0D87-6269-4309-AF9E-6089984B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576BD-E42F-4960-9332-82AB2BF0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E63DE-337E-4F23-8BA2-6CDCBF28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2D86D-E681-49D1-B57D-56143D40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1A2A5-72C5-4D24-8892-8E77A213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DE073-8144-4352-892C-60B5CB02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B0FA-B926-4814-B08E-093A2A04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063A1-EBA5-41BB-B580-7F02BCA0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67E49-69BA-4AD9-850C-AE7D2C54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701E4-5E7E-4C4A-BB32-9A6884CA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F1F35-DE31-4360-8AFF-F3A8DCDD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94232-F65E-43EF-BB7A-D803EEFF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83551-02DD-4794-A519-91DA1CFD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61510-1277-4E98-A2E9-13A245AF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70F-C85C-4D60-9722-B9BDCE1D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9BBE27-2419-4766-917E-64020B34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E60-AA4B-476E-9CFF-F998FCF0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5F10FB-9AF1-4718-B3B9-88F7DB15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C37C1-B964-4B10-A4FC-B01BD372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DA4E17-DA5F-426E-90E6-E4DC7F43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14F782-7051-400F-AA31-DE05118E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40D12C-26E9-48DB-B289-8040EF91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06CD2F-7BF8-4C7E-BA5B-932D0F12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6791B1-8E8B-47A1-A595-A47E80AA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D4ADE8-7FBA-4FEA-96E3-7D4A06C9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2F187-874C-4236-99B4-1C4D738A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DE35AC-5C4F-43D7-A7AD-6EBE03A3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535C-BD39-4519-8C23-E2CF558D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C4AAF1-1B13-4B73-9383-FE2FD79C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7428DC-6A7A-49C6-9FD1-23075CF1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34C90D-1FB5-483B-A484-2B9E7AD4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897049-893D-4C2A-B44E-056BD02F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A1E812-0EDE-483D-9663-4C1E40C7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2D3C07-E8EE-4AE7-BB2F-456AF691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1B0024-F531-4D07-B7A6-D336DC49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D19FC4-AAC7-4D49-BC60-0ACA556A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A11851-0C5E-499D-830B-9613D74A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E4BDCF-7CEB-4CDF-9190-FC3B87F0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8EC8-0A4B-4EB7-9A1C-EF7BC28A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5EB907-5D14-4F56-BDF0-35AFE995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F3D427-82FD-4831-8F5A-FB9C45FC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2A869C-C524-4E46-BCD7-C384861F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F2D90C-AD29-4F8A-A193-A224A8E4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F0E975-0609-4794-B31A-1739870B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242B59-7B17-4D90-A13A-7527D9B5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1E8C45-29D1-40E1-9F98-51BA3DC0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DACD3E-DDF8-4D04-A8E9-2A141C66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632142-B796-4384-91BD-CBDC5213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953177-7562-479A-BA27-8E2A962D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6132-FBF0-4B80-99C5-63E88C87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EAECB-18E9-4EF7-84C8-39D5549F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D72881-E6BE-4B6C-A63C-0ADC6F4C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2AC13A-2833-4ED3-8326-32512C62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743885-44AC-4D90-BEC4-7881927F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4F51C4-9BDD-4E85-B454-0B0426CA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223509-3E08-4D8A-843E-582287A3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53AE05-337E-4C5A-A989-24C1C47A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0D75C7-F2FB-40A3-9431-338F627D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FD5D3C-F2AB-411A-ACE5-86FC206F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4D9F12-656C-47A5-87A9-C45404B4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FE9-69A5-4D00-9C8C-497174AD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C79322-27AE-438E-A316-0650F768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5BEA05-5F44-4586-8BF8-19F17A8C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0703A9-D90D-4854-B963-84AE3281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2DDAA1-8D1E-4432-AB67-9A460BDE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5F3CDB-A2AF-4E72-AD97-0015BC17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9B6A7B-674C-4C24-AABC-0057EC22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52B479-B1A2-4C4B-9B3E-3F90C104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021974-1B23-4C88-A8CE-4AF1805F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FFC701-543C-4EA0-B79C-CF2625A8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8EF8B1-A022-4296-AC74-C20710D3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A9A9-8701-41F5-A4A3-445FE1199599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491D-A740-474E-8C9D-3BB05D3B84A3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28B1-DFC8-4693-8377-0D6B49C21721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A48F-E765-4059-B89F-BCA3BFDBE989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705E-48AB-46E0-ADCC-20702DE0232D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1469-9DEE-46D3-99A9-0CFE635F07DF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9EF6-6E35-444C-B90C-5D2348A68264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6853-5A6C-450F-AD59-E786E45E0CEE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C457-8FC3-4060-9B64-FC48835A5B6C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4A14-2C73-4857-8642-70B4EFC24E3D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BBE0-4496-426A-B11D-6E2EA2D4CF3A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EB4E-5087-4321-8430-75D2E319839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2647-AF4F-4644-B17A-585FD215F238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8FA5-C690-44AE-9A9E-3A5EAEED3B79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4360" y="581400"/>
              <a:ext cx="7746480" cy="56829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4360" y="6042240"/>
              <a:ext cx="7746480" cy="108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4360" y="563760"/>
              <a:ext cx="7746480" cy="24883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837F-D2A8-46BB-AFF0-93A86F411C0E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0510-745F-4433-9C35-B67EB7169CD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E495-4F42-42C5-8F68-C0292C694DCE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3401-752A-4FBB-A142-FE1265ADFF22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04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92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CF45-6026-400A-BE58-396D8C9F2AB5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E38B-0A96-4C25-856E-026848C59C8F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3174-95A1-4B26-B40B-C7284EFED8A1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2B5E-D2EC-40D2-95B4-3C9C9EE75959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23F8-4063-4971-BDFE-810C2BB16BC8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7D5E-8AE5-46C4-ABFF-77871C636696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75D0-F22B-41FB-9123-205D7C91DD64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FF9A-4671-4871-9D5A-BC465E6B5F8C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122B-55B0-4B5D-88B4-8DDBD574085F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F4AB-9D81-41A6-84F3-E227A28A6496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F8FE-F96B-48E1-9BC7-57FE13B1A812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The Balance Shee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1" name="TextBox 2"/>
          <p:cNvSpPr/>
          <p:nvPr/>
        </p:nvSpPr>
        <p:spPr>
          <a:xfrm>
            <a:off x="457200" y="1905120"/>
            <a:ext cx="8229600" cy="48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eports financial information on a specific date defining the current financial condition of the busines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gn of a Strong Busines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– Adequate available assets and few liabiliti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gns of a Weak Busines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– Many Liabilities and few asset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sto MT"/>
              </a:rPr>
              <a:t>Sections of the Balance Sheet</a:t>
            </a:r>
            <a:endParaRPr b="0" lang="en-US" sz="43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3" name="TextBox 2"/>
          <p:cNvSpPr/>
          <p:nvPr/>
        </p:nvSpPr>
        <p:spPr>
          <a:xfrm>
            <a:off x="1676520" y="2438280"/>
            <a:ext cx="566424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1.) Head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2.) Asse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3.) Liabiliti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4.) Owner’s Equit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4040"/>
                </a:solidFill>
                <a:latin typeface="Calisto MT"/>
              </a:rPr>
              <a:t>BALANCE SHEET INFORMATION ON A WORK SHEET</a:t>
            </a:r>
            <a:endParaRPr b="0" lang="en-US" sz="34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15" name="Picture 4" descr="D:\C21 PowerPoint\Multi_Journal\art for blue\Ch08\Ch08-02a.jpg"/>
          <p:cNvPicPr/>
          <p:nvPr/>
        </p:nvPicPr>
        <p:blipFill>
          <a:blip r:embed="rId2"/>
          <a:srcRect l="22616" t="10609" r="0" b="39172"/>
          <a:stretch/>
        </p:blipFill>
        <p:spPr>
          <a:xfrm>
            <a:off x="838080" y="1523880"/>
            <a:ext cx="715824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28600" y="244440"/>
            <a:ext cx="868680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alisto MT"/>
              </a:rPr>
              <a:t>HEADING OF A BALANCE SHEET</a:t>
            </a:r>
            <a:endParaRPr b="0" lang="en-US" sz="3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17" name="Picture 3" descr="D:\C21 PowerPoint\Multi_Journal\art for blue\Ch08\Ch08-02b.jpg"/>
          <p:cNvPicPr/>
          <p:nvPr/>
        </p:nvPicPr>
        <p:blipFill>
          <a:blip r:embed="rId2"/>
          <a:srcRect l="46573" t="0" r="0" b="83757"/>
          <a:stretch/>
        </p:blipFill>
        <p:spPr>
          <a:xfrm>
            <a:off x="453960" y="2057400"/>
            <a:ext cx="8229600" cy="2414520"/>
          </a:xfrm>
          <a:prstGeom prst="rect">
            <a:avLst/>
          </a:prstGeom>
          <a:ln w="0">
            <a:noFill/>
          </a:ln>
        </p:spPr>
      </p:pic>
      <p:sp>
        <p:nvSpPr>
          <p:cNvPr id="718" name="Text Box 4"/>
          <p:cNvSpPr/>
          <p:nvPr/>
        </p:nvSpPr>
        <p:spPr>
          <a:xfrm>
            <a:off x="7426080" y="70858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8-2, page 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5"/>
          <p:cNvSpPr/>
          <p:nvPr/>
        </p:nvSpPr>
        <p:spPr>
          <a:xfrm>
            <a:off x="2739960" y="2362320"/>
            <a:ext cx="533520" cy="5331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6"/>
          <p:cNvSpPr/>
          <p:nvPr/>
        </p:nvSpPr>
        <p:spPr>
          <a:xfrm>
            <a:off x="2435400" y="365760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7"/>
          <p:cNvSpPr/>
          <p:nvPr/>
        </p:nvSpPr>
        <p:spPr>
          <a:xfrm>
            <a:off x="2587680" y="300672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511200" y="533412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 of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9"/>
          <p:cNvSpPr/>
          <p:nvPr/>
        </p:nvSpPr>
        <p:spPr>
          <a:xfrm>
            <a:off x="511200" y="459576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Name of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10"/>
          <p:cNvSpPr/>
          <p:nvPr/>
        </p:nvSpPr>
        <p:spPr>
          <a:xfrm>
            <a:off x="511200" y="4960800"/>
            <a:ext cx="39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 of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28600" y="244440"/>
            <a:ext cx="86868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sto MT"/>
              </a:rPr>
              <a:t>OWNER’S EQUITY SECTION OF A BALANCE SHEET</a:t>
            </a:r>
            <a:endParaRPr b="0" lang="en-US" sz="26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726" name="Picture 4" descr="D:\C21 PowerPoint\Multi_Journal\art for blue\Ch08\Ch08-02c.jpg"/>
          <p:cNvPicPr/>
          <p:nvPr/>
        </p:nvPicPr>
        <p:blipFill>
          <a:blip r:embed="rId2"/>
          <a:srcRect l="0" t="20382" r="15606" b="44775"/>
          <a:stretch/>
        </p:blipFill>
        <p:spPr>
          <a:xfrm>
            <a:off x="457200" y="1066680"/>
            <a:ext cx="8229600" cy="336708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5"/>
          <p:cNvSpPr/>
          <p:nvPr/>
        </p:nvSpPr>
        <p:spPr>
          <a:xfrm>
            <a:off x="7429320" y="64000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8-2, page 1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6"/>
          <p:cNvSpPr/>
          <p:nvPr/>
        </p:nvSpPr>
        <p:spPr>
          <a:xfrm>
            <a:off x="228600" y="4724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wner’s Eq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7"/>
          <p:cNvSpPr/>
          <p:nvPr/>
        </p:nvSpPr>
        <p:spPr>
          <a:xfrm>
            <a:off x="228600" y="5118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Ti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228600" y="5499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9"/>
          <p:cNvSpPr/>
          <p:nvPr/>
        </p:nvSpPr>
        <p:spPr>
          <a:xfrm>
            <a:off x="228600" y="58802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0"/>
          <p:cNvSpPr/>
          <p:nvPr/>
        </p:nvSpPr>
        <p:spPr>
          <a:xfrm>
            <a:off x="228600" y="6243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tal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11"/>
          <p:cNvSpPr/>
          <p:nvPr/>
        </p:nvSpPr>
        <p:spPr>
          <a:xfrm>
            <a:off x="8458200" y="39625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2"/>
          <p:cNvSpPr/>
          <p:nvPr/>
        </p:nvSpPr>
        <p:spPr>
          <a:xfrm>
            <a:off x="6477120" y="3124080"/>
            <a:ext cx="304560" cy="3049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13"/>
          <p:cNvSpPr/>
          <p:nvPr/>
        </p:nvSpPr>
        <p:spPr>
          <a:xfrm>
            <a:off x="8458200" y="3429000"/>
            <a:ext cx="304920" cy="3049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15"/>
          <p:cNvSpPr/>
          <p:nvPr/>
        </p:nvSpPr>
        <p:spPr>
          <a:xfrm>
            <a:off x="6858000" y="3429000"/>
            <a:ext cx="304920" cy="30492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18"/>
          <p:cNvSpPr/>
          <p:nvPr/>
        </p:nvSpPr>
        <p:spPr>
          <a:xfrm>
            <a:off x="474840" y="3938760"/>
            <a:ext cx="30456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19"/>
          <p:cNvSpPr/>
          <p:nvPr/>
        </p:nvSpPr>
        <p:spPr>
          <a:xfrm>
            <a:off x="7010280" y="39625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2895480" y="3962520"/>
            <a:ext cx="304920" cy="304560"/>
          </a:xfrm>
          <a:prstGeom prst="ellipse">
            <a:avLst/>
          </a:prstGeom>
          <a:solidFill>
            <a:srgbClr val="cc0000"/>
          </a:solidFill>
          <a:ln w="1908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Group 33"/>
          <p:cNvGrpSpPr/>
          <p:nvPr/>
        </p:nvGrpSpPr>
        <p:grpSpPr>
          <a:xfrm>
            <a:off x="3200400" y="3733920"/>
            <a:ext cx="4343400" cy="304560"/>
            <a:chOff x="3200400" y="3733920"/>
            <a:chExt cx="4343400" cy="304560"/>
          </a:xfrm>
        </p:grpSpPr>
        <p:sp>
          <p:nvSpPr>
            <p:cNvPr id="741" name="Oval 14"/>
            <p:cNvSpPr/>
            <p:nvPr/>
          </p:nvSpPr>
          <p:spPr>
            <a:xfrm>
              <a:off x="7238880" y="3733920"/>
              <a:ext cx="304920" cy="30456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23"/>
            <p:cNvSpPr/>
            <p:nvPr/>
          </p:nvSpPr>
          <p:spPr>
            <a:xfrm>
              <a:off x="3200400" y="3733920"/>
              <a:ext cx="304560" cy="30456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Group 32"/>
          <p:cNvGrpSpPr/>
          <p:nvPr/>
        </p:nvGrpSpPr>
        <p:grpSpPr>
          <a:xfrm>
            <a:off x="4419720" y="4343400"/>
            <a:ext cx="3276360" cy="627120"/>
            <a:chOff x="4419720" y="4343400"/>
            <a:chExt cx="3276360" cy="627120"/>
          </a:xfrm>
        </p:grpSpPr>
        <p:grpSp>
          <p:nvGrpSpPr>
            <p:cNvPr id="744" name="Group 31"/>
            <p:cNvGrpSpPr/>
            <p:nvPr/>
          </p:nvGrpSpPr>
          <p:grpSpPr>
            <a:xfrm>
              <a:off x="4419720" y="4343400"/>
              <a:ext cx="3276360" cy="533520"/>
              <a:chOff x="4419720" y="4343400"/>
              <a:chExt cx="3276360" cy="533520"/>
            </a:xfrm>
          </p:grpSpPr>
          <p:sp>
            <p:nvSpPr>
              <p:cNvPr id="745" name="Line 24"/>
              <p:cNvSpPr/>
              <p:nvPr/>
            </p:nvSpPr>
            <p:spPr>
              <a:xfrm flipH="1" flipV="1">
                <a:off x="4419720" y="4343400"/>
                <a:ext cx="1676160" cy="5335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25"/>
              <p:cNvSpPr/>
              <p:nvPr/>
            </p:nvSpPr>
            <p:spPr>
              <a:xfrm flipV="1">
                <a:off x="6095880" y="4343400"/>
                <a:ext cx="1600200" cy="5335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Oval 16"/>
            <p:cNvSpPr/>
            <p:nvPr/>
          </p:nvSpPr>
          <p:spPr>
            <a:xfrm>
              <a:off x="5943600" y="4665600"/>
              <a:ext cx="304920" cy="30492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Text Box 26"/>
          <p:cNvSpPr/>
          <p:nvPr/>
        </p:nvSpPr>
        <p:spPr>
          <a:xfrm>
            <a:off x="2590920" y="51055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tal Liabiliti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Owner’s Eq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27"/>
          <p:cNvSpPr/>
          <p:nvPr/>
        </p:nvSpPr>
        <p:spPr>
          <a:xfrm>
            <a:off x="2590920" y="54864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of Liabilities and Owner’s Eq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28"/>
          <p:cNvSpPr/>
          <p:nvPr/>
        </p:nvSpPr>
        <p:spPr>
          <a:xfrm>
            <a:off x="2479680" y="58672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e To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29"/>
          <p:cNvSpPr/>
          <p:nvPr/>
        </p:nvSpPr>
        <p:spPr>
          <a:xfrm>
            <a:off x="2479680" y="6243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0"/>
          <p:cNvSpPr/>
          <p:nvPr/>
        </p:nvSpPr>
        <p:spPr>
          <a:xfrm>
            <a:off x="2590920" y="47242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of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Group 35"/>
          <p:cNvGrpSpPr/>
          <p:nvPr/>
        </p:nvGrpSpPr>
        <p:grpSpPr>
          <a:xfrm>
            <a:off x="3962520" y="4343400"/>
            <a:ext cx="4267080" cy="304920"/>
            <a:chOff x="3962520" y="4343400"/>
            <a:chExt cx="4267080" cy="304920"/>
          </a:xfrm>
        </p:grpSpPr>
        <p:sp>
          <p:nvSpPr>
            <p:cNvPr id="754" name="Oval 17"/>
            <p:cNvSpPr/>
            <p:nvPr/>
          </p:nvSpPr>
          <p:spPr>
            <a:xfrm>
              <a:off x="7924680" y="4343400"/>
              <a:ext cx="304920" cy="30492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Oval 34"/>
            <p:cNvSpPr/>
            <p:nvPr/>
          </p:nvSpPr>
          <p:spPr>
            <a:xfrm>
              <a:off x="3962520" y="4343400"/>
              <a:ext cx="304560" cy="304920"/>
            </a:xfrm>
            <a:prstGeom prst="ellipse">
              <a:avLst/>
            </a:prstGeom>
            <a:solidFill>
              <a:srgbClr val="cc0000"/>
            </a:solidFill>
            <a:ln w="1908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310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404040"/>
                </a:solidFill>
                <a:latin typeface="Calisto MT"/>
              </a:rPr>
              <a:t>Determining Current Capital</a:t>
            </a:r>
            <a:endParaRPr b="0" lang="en-US" sz="42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7" name="TextBox 22"/>
          <p:cNvSpPr/>
          <p:nvPr/>
        </p:nvSpPr>
        <p:spPr>
          <a:xfrm>
            <a:off x="1913760" y="1828800"/>
            <a:ext cx="5394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apital Account Balanc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Box 23"/>
          <p:cNvSpPr/>
          <p:nvPr/>
        </p:nvSpPr>
        <p:spPr>
          <a:xfrm>
            <a:off x="2362320" y="3124080"/>
            <a:ext cx="4647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Net Income/(Net Loss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Box 24"/>
          <p:cNvSpPr/>
          <p:nvPr/>
        </p:nvSpPr>
        <p:spPr>
          <a:xfrm>
            <a:off x="2669760" y="4419720"/>
            <a:ext cx="39024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Drawing Accoun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lus 25" descr=""/>
          <p:cNvPicPr/>
          <p:nvPr/>
        </p:nvPicPr>
        <p:blipFill>
          <a:blip r:embed="rId2"/>
          <a:stretch/>
        </p:blipFill>
        <p:spPr>
          <a:xfrm>
            <a:off x="4084560" y="256068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761" name="Minus 26" descr=""/>
          <p:cNvPicPr/>
          <p:nvPr/>
        </p:nvPicPr>
        <p:blipFill>
          <a:blip r:embed="rId3"/>
          <a:stretch/>
        </p:blipFill>
        <p:spPr>
          <a:xfrm>
            <a:off x="4322880" y="4091040"/>
            <a:ext cx="573120" cy="268200"/>
          </a:xfrm>
          <a:prstGeom prst="rect">
            <a:avLst/>
          </a:prstGeom>
          <a:ln w="0">
            <a:noFill/>
          </a:ln>
        </p:spPr>
      </p:pic>
      <p:pic>
        <p:nvPicPr>
          <p:cNvPr id="762" name="Minus 29" descr=""/>
          <p:cNvPicPr/>
          <p:nvPr/>
        </p:nvPicPr>
        <p:blipFill>
          <a:blip r:embed="rId4"/>
          <a:stretch/>
        </p:blipFill>
        <p:spPr>
          <a:xfrm>
            <a:off x="4700520" y="2719440"/>
            <a:ext cx="573120" cy="268200"/>
          </a:xfrm>
          <a:prstGeom prst="rect">
            <a:avLst/>
          </a:prstGeom>
          <a:ln w="0">
            <a:noFill/>
          </a:ln>
        </p:spPr>
      </p:pic>
      <p:pic>
        <p:nvPicPr>
          <p:cNvPr id="763" name="Equal 30" descr=""/>
          <p:cNvPicPr/>
          <p:nvPr/>
        </p:nvPicPr>
        <p:blipFill>
          <a:blip r:embed="rId5"/>
          <a:stretch/>
        </p:blipFill>
        <p:spPr>
          <a:xfrm>
            <a:off x="1816200" y="5761080"/>
            <a:ext cx="628560" cy="358560"/>
          </a:xfrm>
          <a:prstGeom prst="rect">
            <a:avLst/>
          </a:prstGeom>
          <a:ln w="0">
            <a:noFill/>
          </a:ln>
        </p:spPr>
      </p:pic>
      <p:sp>
        <p:nvSpPr>
          <p:cNvPr id="764" name="TextBox 31"/>
          <p:cNvSpPr/>
          <p:nvPr/>
        </p:nvSpPr>
        <p:spPr>
          <a:xfrm>
            <a:off x="2666880" y="5486400"/>
            <a:ext cx="58676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urrent Capital Amoun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2:53:51Z</dcterms:created>
  <dc:creator>Mary Colleen McLaughlin</dc:creator>
  <dc:description/>
  <dc:language>en-US</dc:language>
  <cp:lastModifiedBy>David Combs</cp:lastModifiedBy>
  <cp:lastPrinted>1999-03-31T04:31:51Z</cp:lastPrinted>
  <dcterms:modified xsi:type="dcterms:W3CDTF">2011-12-02T03:22:17Z</dcterms:modified>
  <cp:revision>33</cp:revision>
  <dc:subject/>
  <dc:title>THE ACCOUNTING EQUATION</dc:title>
</cp:coreProperties>
</file>